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  <p:sldId id="302" r:id="rId58"/>
    <p:sldId id="303" r:id="rId59"/>
    <p:sldId id="304" r:id="rId60"/>
    <p:sldId id="305" r:id="rId61"/>
    <p:sldId id="306" r:id="rId62"/>
    <p:sldId id="307" r:id="rId63"/>
    <p:sldId id="308" r:id="rId64"/>
    <p:sldId id="309" r:id="rId65"/>
    <p:sldId id="310" r:id="rId66"/>
    <p:sldId id="311" r:id="rId67"/>
    <p:sldId id="312" r:id="rId68"/>
    <p:sldId id="313" r:id="rId69"/>
    <p:sldId id="314" r:id="rId70"/>
    <p:sldId id="315" r:id="rId71"/>
    <p:sldId id="316" r:id="rId72"/>
    <p:sldId id="317" r:id="rId73"/>
    <p:sldId id="318" r:id="rId74"/>
    <p:sldId id="319" r:id="rId75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slide" Target="slides/slide47.xml"/><Relationship Id="rId59" Type="http://schemas.openxmlformats.org/officeDocument/2006/relationships/slide" Target="slides/slide48.xml"/><Relationship Id="rId60" Type="http://schemas.openxmlformats.org/officeDocument/2006/relationships/slide" Target="slides/slide49.xml"/><Relationship Id="rId61" Type="http://schemas.openxmlformats.org/officeDocument/2006/relationships/slide" Target="slides/slide50.xml"/><Relationship Id="rId62" Type="http://schemas.openxmlformats.org/officeDocument/2006/relationships/slide" Target="slides/slide51.xml"/><Relationship Id="rId63" Type="http://schemas.openxmlformats.org/officeDocument/2006/relationships/slide" Target="slides/slide52.xml"/><Relationship Id="rId64" Type="http://schemas.openxmlformats.org/officeDocument/2006/relationships/slide" Target="slides/slide53.xml"/><Relationship Id="rId65" Type="http://schemas.openxmlformats.org/officeDocument/2006/relationships/slide" Target="slides/slide54.xml"/><Relationship Id="rId66" Type="http://schemas.openxmlformats.org/officeDocument/2006/relationships/slide" Target="slides/slide55.xml"/><Relationship Id="rId67" Type="http://schemas.openxmlformats.org/officeDocument/2006/relationships/slide" Target="slides/slide56.xml"/><Relationship Id="rId68" Type="http://schemas.openxmlformats.org/officeDocument/2006/relationships/slide" Target="slides/slide57.xml"/><Relationship Id="rId69" Type="http://schemas.openxmlformats.org/officeDocument/2006/relationships/slide" Target="slides/slide58.xml"/><Relationship Id="rId70" Type="http://schemas.openxmlformats.org/officeDocument/2006/relationships/slide" Target="slides/slide59.xml"/><Relationship Id="rId71" Type="http://schemas.openxmlformats.org/officeDocument/2006/relationships/slide" Target="slides/slide60.xml"/><Relationship Id="rId72" Type="http://schemas.openxmlformats.org/officeDocument/2006/relationships/slide" Target="slides/slide61.xml"/><Relationship Id="rId73" Type="http://schemas.openxmlformats.org/officeDocument/2006/relationships/slide" Target="slides/slide62.xml"/><Relationship Id="rId74" Type="http://schemas.openxmlformats.org/officeDocument/2006/relationships/slide" Target="slides/slide63.xml"/><Relationship Id="rId75" Type="http://schemas.openxmlformats.org/officeDocument/2006/relationships/slide" Target="slides/slide64.xml"/><Relationship Id="rId7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move the slide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91CDA-7747-4F57-8474-1EB4845528FD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EDB68-8738-4675-B1BD-E166796A92B7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schiedene Ansichten von Ontologi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zter Punkt: Kategorien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r ist für uns vor allem interessant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FA5CE-E490-4455-8F60-9207274B0ED1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ght-weight ontology model. Basically knows classes and properties . Partial order on inheritance so we can express equivalence by cyclic inheritance hierarchy. Pretty much OO like, so to say.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cative schema. So edges may be there that have never been declared as a property, also edges that have been declared might not be used for some object. We don‘t have to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l Nulls.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es are defined on their own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we consider storage we can have unary predicates for classe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(x:Employee) and unary predicates for class membership 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e., which of course leads to duplicates x:Employee(x:Raphael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ies are attributes and associations to speak in OO.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don‘t belong to the class, instead they are first class entitie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ies possibly have (mulitple) domains and ranges, thus a property can validly be applied to any member of a class in it‘s domain and can point to any member of a class in it‘s range.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A90BF-8983-4D15-B759-94DF3D26CB9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DCF0C-CF70-4E1C-B9D4-2ECA098829B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1C487-CF33-4FD5-B096-DD89A69423A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3499A-22D3-4555-9B74-7A3A2327733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F99F6-DD50-4A0A-946F-084E3C636B4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102EE-8DAD-491B-8206-BDD152AF7E8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A7541-D2D2-4508-8D87-7237D97522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90161-4AAA-4126-AE87-0B769D12CF7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136D8-08FA-4C3B-BCAF-6D43CB9899C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B71B8-5E70-49F1-842A-E06AF296FEF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2B424-4A4A-468A-B386-69B0804468F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D2925-512C-4B00-8679-0C5990C48F4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88920" indent="-889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5778360" y="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7226280" y="0"/>
            <a:ext cx="5778360" cy="12319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3240" y="1440"/>
            <a:ext cx="5794560" cy="12319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6" descr=""/>
          <p:cNvPicPr/>
          <p:nvPr/>
        </p:nvPicPr>
        <p:blipFill>
          <a:blip r:embed="rId5"/>
          <a:stretch/>
        </p:blipFill>
        <p:spPr>
          <a:xfrm>
            <a:off x="12476160" y="7656480"/>
            <a:ext cx="457200" cy="2019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826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2" marL="1727280" indent="-571680">
              <a:spcBef>
                <a:spcPts val="2401"/>
              </a:spcBef>
              <a:buClr>
                <a:srgbClr val="000000"/>
              </a:buClr>
              <a:buSzPct val="69000"/>
              <a:buFont typeface="Helvetica Neue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3" marL="2171880" indent="-571680">
              <a:spcBef>
                <a:spcPts val="2401"/>
              </a:spcBef>
              <a:buClr>
                <a:srgbClr val="000000"/>
              </a:buClr>
              <a:buFont typeface="Helvetica Neu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4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5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6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-12600" y="1752480"/>
            <a:ext cx="11849040" cy="63720"/>
          </a:xfrm>
          <a:prstGeom prst="rect">
            <a:avLst/>
          </a:prstGeom>
          <a:gradFill rotWithShape="0">
            <a:gsLst>
              <a:gs pos="0">
                <a:srgbClr val="fbffff"/>
              </a:gs>
              <a:gs pos="100000">
                <a:srgbClr val="f2001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 rot="5400000">
            <a:off x="542880" y="1393560"/>
            <a:ext cx="355320" cy="1206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"/>
          <p:cNvPicPr/>
          <p:nvPr/>
        </p:nvPicPr>
        <p:blipFill>
          <a:blip r:embed="rId3"/>
          <a:stretch/>
        </p:blipFill>
        <p:spPr>
          <a:xfrm>
            <a:off x="0" y="54612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"/>
          <p:cNvPicPr/>
          <p:nvPr/>
        </p:nvPicPr>
        <p:blipFill>
          <a:blip r:embed="rId4"/>
          <a:srcRect l="0" t="0" r="0" b="89741"/>
          <a:stretch/>
        </p:blipFill>
        <p:spPr>
          <a:xfrm>
            <a:off x="0" y="-63360"/>
            <a:ext cx="1447920" cy="6094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3"/>
          <p:cNvSpPr>
            <a:spLocks noGrp="1"/>
          </p:cNvSpPr>
          <p:nvPr>
            <p:ph type="sldNum" idx="1"/>
          </p:nvPr>
        </p:nvSpPr>
        <p:spPr>
          <a:xfrm>
            <a:off x="12712320" y="942300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AF873-A526-4396-B222-4579A0D90C5C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74320" indent="-2743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74320" indent="-2743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hyperlink" Target="http://www.semantic-web-grundlagen.de/index.php/Kapitel_2" TargetMode="External"/><Relationship Id="rId4" Type="http://schemas.openxmlformats.org/officeDocument/2006/relationships/hyperlink" Target="http://www.semantic-web-grundlagen.de/" TargetMode="External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6.jpe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1"/>
          <p:cNvSpPr/>
          <p:nvPr/>
        </p:nvSpPr>
        <p:spPr>
          <a:xfrm>
            <a:off x="127008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  <a:ea typeface="Bodoni SvtyTwo SC ITC TT-Book"/>
              </a:rPr>
              <a:t>Semantic Web Technologies I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Rectangle 2"/>
          <p:cNvSpPr/>
          <p:nvPr/>
        </p:nvSpPr>
        <p:spPr>
          <a:xfrm>
            <a:off x="1270080" y="4940280"/>
            <a:ext cx="10464840" cy="33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Lehrveranstaltung im WS09/10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M.Sc. Markus Krötzsch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Dr. Sebastian Rudolph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55" name="Picture 7" descr=""/>
          <p:cNvPicPr/>
          <p:nvPr/>
        </p:nvPicPr>
        <p:blipFill>
          <a:blip r:embed="rId1"/>
          <a:stretch/>
        </p:blipFill>
        <p:spPr>
          <a:xfrm>
            <a:off x="0" y="12600"/>
            <a:ext cx="13004640" cy="975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64111-5F92-419F-AD6B-89B41A6D6C8A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28D2C-3336-4D2E-83FC-AF3D3A9A1C9A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/>
          </p:nvPr>
        </p:nvSpPr>
        <p:spPr>
          <a:xfrm>
            <a:off x="355680" y="2514240"/>
            <a:ext cx="12344400" cy="712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W3C Recommendation seit 2004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Semantisches Fragment von FOL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Drei Variante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OWL Lit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</a:rPr>
              <a:t>µ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 OWL DL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</a:rPr>
              <a:t>µ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 OWL Full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Keine Reifikation in OWL DL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➔ RDFS ist Fragment von OWL Full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OWL DL ist entscheidbar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entspricht der Beschreibungslogik </a:t>
            </a:r>
            <a:r>
              <a:rPr b="0" lang="en-US" sz="3400" spc="-1" strike="noStrike">
                <a:solidFill>
                  <a:srgbClr val="000000"/>
                </a:solidFill>
                <a:latin typeface="cmbsy10"/>
              </a:rPr>
              <a:t>SHOIN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(D)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W3C-Dokumente (Vorlesungswebseite) enthalten Details, die hier nicht alle angesprochen werden könne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90" name="Rectangle 2"/>
          <p:cNvSpPr/>
          <p:nvPr/>
        </p:nvSpPr>
        <p:spPr>
          <a:xfrm>
            <a:off x="1486080" y="304920"/>
            <a:ext cx="1104876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- Allgemeines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7B203-D5A1-41B0-87ED-6AFB2F6CCD5F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473120" y="444600"/>
            <a:ext cx="11049120" cy="13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Varian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77760" y="2007720"/>
            <a:ext cx="11049120" cy="774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OWL Ful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hält OWL DL und OWL Lite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hält als einzige OWL-Teilsprache ganz RDFS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mantik enthält einige Aspekte, die aus logischem Blickwinkel problematisch sind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Unentscheidbar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Wird durch aktuelle Softwarewerkzeuge nur bedingt unterstützt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OWL D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hält OWL Lite und ist Teilsprache von OWL Full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scheidbar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Wird von aktuellen Softwarewerkzeugen fast vollständig unterstützt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Komplexität NExpTime (worst-case)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OWL Lite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Ist Teilsprache von OWL DL und OWL Full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scheidbar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Wenig ausdrucksstark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Komplexität ExpTime (worst-case)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60981-BB86-4737-B19E-ABB048A8CF22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Dokument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ind RDF Dokumente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(zumindest in der Standard-Syntax; es gibt auch andere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stehen au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Kopf mit allgemeinen Angab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est mit der eigentlichen Ontologie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1051F-1546-4F57-A51A-C833F1765D28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er Kopf eines OWL Dokumente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0840" y="2285640"/>
            <a:ext cx="1300500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efinition von Namespaces in der Wurz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RDF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="http://www.semanticweb-grundlagen.de/beispielontologie#"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:rd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="http://www.w3.org/1999/02/22-rdf-syntax-ns#"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:xs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="http://www.w3.org/2001/XMLSchema#"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:rdf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="http://www.w3.org/2000/01/rdf-schema#"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:ow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="http://www.w3.org/2002/07/owl#"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:RDF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B570D-FCC1-4330-9257-126FE37B4824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er Kopf eines OWL Dokumente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77400" y="2387160"/>
            <a:ext cx="1136340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llgemeine Informationen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tology rdf:about=""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com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datatype="http://www.w3.org/2001/XMLSchema#string“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WRC Ontologie in der Version vom Dezember 2005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comment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versionInfo&gt;v0.5&lt;/owl:versionInfo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imports rdf:resource="http://www.semanticweb-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grundlagen.de/foo"/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priorVersio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"http://ontoware.org/projects/swrc"/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ntology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06D5A-628C-4958-ACA4-651A79EDBF11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er Kopf eines OWL Dokumente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461016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von RDFS geerbt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comment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label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seeAls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isDefinedBy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außerdem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import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6197760" y="2316240"/>
            <a:ext cx="6451560" cy="38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ür Versionieru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versionInf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priorVers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backwardCompatibleWit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incompatibleWit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eprecatedClas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eprecatedPropert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5FBE3-220D-4E94-8C6A-4535A01CA6C6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77763-DA89-4E0A-8E22-FE80BA03EB61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lassen, Rollen und Individu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ie drei Bausteine von Ontologieaxiomen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0"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Vergleichbar mit Klassen in RDF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0"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Vergleichbar mit Objekten in RDF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0"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Vergleichbar mit Properties in RDF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56C53-D976-4BDC-AF87-E3F1B53C113C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lass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efini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Professor"/&gt;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vordefiniert: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2" marL="118260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Thing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2" marL="118260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Nothing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6" name=""/>
          <p:cNvGraphicFramePr/>
          <p:nvPr/>
        </p:nvGraphicFramePr>
        <p:xfrm>
          <a:off x="687240" y="3683160"/>
          <a:ext cx="6070680" cy="5483160"/>
        </p:xfrm>
        <a:graphic>
          <a:graphicData uri="http://schemas.openxmlformats.org/drawingml/2006/table">
            <a:tbl>
              <a:tblPr/>
              <a:tblGrid>
                <a:gridCol w="6070680"/>
              </a:tblGrid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leitung und XM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führung in RDF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DF Schem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gik - Grundla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RDF(S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emantik und Reasoning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RQ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njunktive Anfragen / Einführung Regelsprachen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eln für OW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tology Engineering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c Web - Anwendun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70080" y="1638000"/>
            <a:ext cx="1117584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OWL - Syntax &amp; Intuition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269720" y="2882520"/>
            <a:ext cx="10464840" cy="80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Dr. Sebastian Rudolph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7346880" y="3309840"/>
            <a:ext cx="4622760" cy="38916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7345440" y="3325680"/>
            <a:ext cx="4626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3120" tIns="38160" bIns="38160" anchor="b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Helvetica Neue"/>
              </a:rPr>
              <a:t>Semantic Web Architectur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7346880" y="3676680"/>
            <a:ext cx="4632480" cy="5716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62" name="Picture 6" descr=""/>
          <p:cNvPicPr/>
          <p:nvPr/>
        </p:nvPicPr>
        <p:blipFill>
          <a:blip r:embed="rId1"/>
          <a:stretch/>
        </p:blipFill>
        <p:spPr>
          <a:xfrm>
            <a:off x="7532640" y="3906720"/>
            <a:ext cx="4280040" cy="4430880"/>
          </a:xfrm>
          <a:prstGeom prst="rect">
            <a:avLst/>
          </a:prstGeom>
          <a:ln w="0">
            <a:noFill/>
          </a:ln>
        </p:spPr>
      </p:pic>
      <p:sp>
        <p:nvSpPr>
          <p:cNvPr id="363" name="Rectangle 7"/>
          <p:cNvSpPr/>
          <p:nvPr/>
        </p:nvSpPr>
        <p:spPr>
          <a:xfrm>
            <a:off x="7643880" y="5780160"/>
            <a:ext cx="3254400" cy="2906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8507520" y="8313840"/>
            <a:ext cx="17668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</a:rPr>
              <a:t>Now standardize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Rectangle 9"/>
          <p:cNvSpPr/>
          <p:nvPr/>
        </p:nvSpPr>
        <p:spPr>
          <a:xfrm>
            <a:off x="7643880" y="4502160"/>
            <a:ext cx="4116240" cy="1262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Rectangle 10"/>
          <p:cNvSpPr/>
          <p:nvPr/>
        </p:nvSpPr>
        <p:spPr>
          <a:xfrm>
            <a:off x="8150400" y="4546440"/>
            <a:ext cx="16747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</a:rPr>
              <a:t>Current research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Rectangle 11"/>
          <p:cNvSpPr/>
          <p:nvPr/>
        </p:nvSpPr>
        <p:spPr>
          <a:xfrm>
            <a:off x="7480440" y="3848040"/>
            <a:ext cx="4457520" cy="4876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68" name="Picture 12" descr=""/>
          <p:cNvPicPr/>
          <p:nvPr/>
        </p:nvPicPr>
        <p:blipFill>
          <a:blip r:embed="rId2"/>
          <a:srcRect l="33175" t="42792" r="44279" b="39723"/>
          <a:stretch/>
        </p:blipFill>
        <p:spPr>
          <a:xfrm>
            <a:off x="8940960" y="5829480"/>
            <a:ext cx="965160" cy="774360"/>
          </a:xfrm>
          <a:prstGeom prst="rect">
            <a:avLst/>
          </a:prstGeom>
          <a:ln w="0">
            <a:noFill/>
          </a:ln>
        </p:spPr>
      </p:pic>
      <p:sp>
        <p:nvSpPr>
          <p:cNvPr id="369" name="Rectangle 63"/>
          <p:cNvSpPr/>
          <p:nvPr/>
        </p:nvSpPr>
        <p:spPr>
          <a:xfrm>
            <a:off x="647640" y="5791320"/>
            <a:ext cx="6108840" cy="431640"/>
          </a:xfrm>
          <a:prstGeom prst="rect">
            <a:avLst/>
          </a:prstGeom>
          <a:noFill/>
          <a:ln w="88920">
            <a:solidFill>
              <a:srgbClr val="cc0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Rectangle 64"/>
          <p:cNvSpPr/>
          <p:nvPr/>
        </p:nvSpPr>
        <p:spPr>
          <a:xfrm>
            <a:off x="0" y="9461520"/>
            <a:ext cx="14630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Helvetica Neue"/>
              </a:rPr>
              <a:t>entspricht Kapitel 5 des Buches „Semantic Web - Grundlagen“ - siehe auch </a:t>
            </a:r>
            <a:r>
              <a:rPr b="0" lang="en-US" sz="1500" spc="-1" strike="noStrike" u="sng">
                <a:solidFill>
                  <a:srgbClr val="009999"/>
                </a:solidFill>
                <a:uFillTx/>
                <a:latin typeface="Helvetica Neue"/>
                <a:hlinkClick r:id="rId3"/>
              </a:rPr>
              <a:t>http://www.semantic-web-grundlagen.de/index.php/Kapitel_5</a:t>
            </a:r>
            <a:r>
              <a:rPr b="0" lang="en-US" sz="15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Rectangle 65"/>
          <p:cNvSpPr/>
          <p:nvPr/>
        </p:nvSpPr>
        <p:spPr>
          <a:xfrm>
            <a:off x="317520" y="895320"/>
            <a:ext cx="123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hlinkClick r:id="rId4"/>
              </a:rPr>
              <a:t>www.semantic-web-grundlagen.d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97168" presetSubtype="788205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0" presetSubtype="9335446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067D1-C6A7-4608-B0F8-D5B75FFBCF65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Individu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efinition durch Klassenzugehörigkei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Description rdf:ID="RudiStuder"&gt;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type rdf:resource="#Professor"/&gt;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:Description&gt;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gleichbedeutend: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2" marL="16826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rofessor rdf:ID="RudiStuder"/&gt;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9AA53-D737-4DC9-AE45-0F8BE9687033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bstrakte Roll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766800" y="2387160"/>
            <a:ext cx="118807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bstrakte Rollen werden definiert wi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ID="Zugehoerigkeit"/&gt;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omain und Range abstrakter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rdf:ID="Zugehoerigkeit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domain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Pers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rang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Organis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bjectProperty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C4AA2-3C50-44F7-93F6-1DF9B6CE5215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onkrete Roll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770040" y="2387520"/>
            <a:ext cx="11874240" cy="882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konkrete Rollen haben Datentypen im Range</a:t>
            </a: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	</a:t>
            </a:r>
            <a:br>
              <a:rPr sz="3300"/>
            </a:b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DatatypeProperty rdf:ID="Vorname"/&gt;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Domain und Range konkreter Rollen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DatatypeProperty rdf:ID="Vorname"&gt;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domain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Person" /&gt;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range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  rdf:resource="&amp;xsd;string"/&gt;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DatatypeProperty&gt;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Viele XML Datentypen können verwendet werden.</a:t>
            </a:r>
            <a:br>
              <a:rPr sz="3300"/>
            </a:b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Im Standard vorgeschrieben sind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</a:t>
            </a: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 und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</a:t>
            </a: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0F2C3-4882-4BC1-9EC8-F5DC0D9261A6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98320" y="99720"/>
            <a:ext cx="11048760" cy="2127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Individuen und Roll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61600" y="2417400"/>
            <a:ext cx="11876040" cy="73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erson rdf:ID="RudiStuder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Zugehoerigkeit rdf:resource="#AIFB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Zugehoerigkeit rdf:resource="#ontoprise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orname rdf:datatype="&amp;xsd;string"&gt;Rudi&lt;/Vorname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Person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ollen sind im allgemeinen nicht funktional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826D9-FA4E-4738-950B-4CDF9A61EFE4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B5A34-3432-4FBC-AC08-E572242F2104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fache Klassen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390320" y="2387160"/>
            <a:ext cx="1105524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Professor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subClassOf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"#Fakultaetsmitglied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Fakultaetsmitglied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subClassOf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Pers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Es folgt durch Inferenz, dass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Professor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eine Subklasse von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Person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ist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B59A3-0C88-4A4F-9082-EEF043D38F8B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fache Klassen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270080" y="2018880"/>
            <a:ext cx="11531520" cy="829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Professor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 rdf:resource="#Fakultaetsmitglied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Buch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 rdf:resource="#Publik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Fakultaetsmitglied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isjointWith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Publik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Es folgt durch Inferenz, dass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Professor</a:t>
            </a: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 und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Buch</a:t>
            </a: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 ebenfalls disjunkte Klassen sind.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0FF18-FF5B-4675-9FBF-F25AE417E44A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fache Klassen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466640" y="2133360"/>
            <a:ext cx="1105524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Buch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 rdf:resource="#Publik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Publikation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equivalentClass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"#Public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Es folgt durch Inferenz, dass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Buch</a:t>
            </a: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 eine Subklasse von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ation</a:t>
            </a: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 ist.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03251-A272-46BB-88BA-004A9C48392B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Individuen und Klassen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270080" y="2018880"/>
            <a:ext cx="11531520" cy="849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Buch rdf:ID="SemanticWebGrundlagen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utor rdf:resource="#PascalHitzle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utor rdf:resource="#MarkusKrötzsch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utor rdf:resource="#SebastianRudolph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utor rdf:resource="#YorkSure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Buch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Buch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 rdf:resource="#Publik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Es folgt durch Inferenz, dass </a:t>
            </a:r>
            <a:r>
              <a:rPr b="0" lang="en-US" sz="3400" spc="-1" strike="noStrike">
                <a:solidFill>
                  <a:srgbClr val="000000"/>
                </a:solidFill>
                <a:latin typeface="Courier New"/>
                <a:ea typeface="Courier New"/>
              </a:rPr>
              <a:t>SemanticWebGrundlagen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 eine </a:t>
            </a:r>
            <a:r>
              <a:rPr b="0" lang="en-US" sz="3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kation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 ist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34564-1BD9-4A9E-8335-640A2FA71338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485720" y="495360"/>
            <a:ext cx="11048760" cy="13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Beziehungen zwischen Individu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701720" y="2007720"/>
            <a:ext cx="11049120" cy="774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rofessor rdf:ID="RudiStuder"/&gt;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Description rdf:about="#RudiStuder"&gt;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sameAs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"#ProfessorStuder"/&gt;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:Description&gt;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Es folgt durch Inferenz, dass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ProfessorStuder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ein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Professor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ist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Verschiedenheit von Individuen mittels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ifferentFrom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A1D69-82EF-4CEE-A313-0D6EF0C31D6A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FF35A-035F-40E4-895A-DBF1A35228C9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1625400" y="2007720"/>
            <a:ext cx="11048760" cy="774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AllDifferent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distinctMembers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parseType="Collection"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erson rdf:about="#RudiStuder"/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erson rdf:about="#YorkSure"/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erson rdf:about="#PascalHitzler"/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distinctMembers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AllDifferent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Abgekürzte Schreibweise anstelle der Verwendung von mehrere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ifferentFrom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Der Einsatz vo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AllDifferent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 u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istinctMembers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 ist nur dafür vorgesehen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8" name="Rectangle 2"/>
          <p:cNvSpPr/>
          <p:nvPr/>
        </p:nvSpPr>
        <p:spPr>
          <a:xfrm>
            <a:off x="1486080" y="495360"/>
            <a:ext cx="1104876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Beziehungen zwischen Individuen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8901D-F634-4ABA-963D-CC35E33DCB3C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bgeschlossene Klass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62576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SekretaerinnenVonStuder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oneOf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parseType="Collection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erson rdf:about="#GiselaSchillinge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erson rdf:about="#BeateKuehne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ne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ies besagt, dass es nur 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genau diese beiden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SekretaerinnenVonStuder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gibt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BD148-72A1-461C-9708-BB1062B7016D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98918-5DB1-41B4-95A4-26193E64A432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49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Logische Klassenkonstruktor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ogisches Und (Konjunktion):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intersectionOf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ogisches Oder (Disjunktion):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unionOf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ogisches Nicht (Negation):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complementOf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Werden verwendet, um komplexe Klassen aus einfachen Klassen zu konstruieren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982AB-B5EC-43C6-9818-9FED0CCA2CDC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onjunk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67652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SekretaerinnenVonStuder"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equivalentClass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&gt;   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intersectionOf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parseType="Collection"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Sekretaerinnen"/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AngehoerigeAGStuder"/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intersectionOf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equivalentClass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s folgt z.B. durch Inferenz, dass all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SekretaerinnenVonStuder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auch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Sekretaerinnen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sind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A0503-6F10-49AD-9F2E-355AA3F4266D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isjunk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523520" y="2019240"/>
            <a:ext cx="1153188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Professor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unionOf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parseType="Collection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aktivLehrend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imRuhestand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union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subClass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1CAE3-F6A3-4CB5-ACA0-5CDC772A725C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Neg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971640" y="2387160"/>
            <a:ext cx="11571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Fakultaetsmitglied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complementOf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Publik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subClass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mantisch äquivalente Aussage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Fakultaetsmitglied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disjointWith rdf:resource="#Publik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3D816-B0D8-49BC-9BD9-F570A5797E0E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485720" y="-49320"/>
            <a:ext cx="11048760" cy="1890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Rolleneinschränkungen (allValuesFrom)</a:t>
            </a:r>
            <a:endParaRPr b="0" lang="en-US" sz="57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331640" y="1828440"/>
            <a:ext cx="11876040" cy="8636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dienen der Definition komplexer Klassen durch Rollen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Pruefung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Restriction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Property rdf:resource="#hatPruefe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allValuesFrom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Professo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Restriction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subClass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D.h. </a:t>
            </a:r>
            <a:r>
              <a:rPr b="0" i="1" lang="en-US" sz="3700" spc="-1" strike="noStrike">
                <a:solidFill>
                  <a:srgbClr val="000000"/>
                </a:solidFill>
                <a:latin typeface="Arial"/>
                <a:ea typeface="Arial"/>
              </a:rPr>
              <a:t>alle</a:t>
            </a: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 Prüfer einer Prüfung müssen Professoren sein.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429C7-327C-4617-8F29-C33AE9ACE027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950760" y="1752120"/>
            <a:ext cx="11876400" cy="76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6000"/>
          </a:bodyPr>
          <a:p>
            <a:pPr marL="5227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227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Pruefung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27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27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Restriction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27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Property rdf:resource="#hatPruefe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27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someValuesFrom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Pers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27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Restriction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27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subClass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27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272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D.h. jede Prüfung muss </a:t>
            </a:r>
            <a:r>
              <a:rPr b="0" i="1" lang="en-US" sz="3700" spc="-1" strike="noStrike">
                <a:solidFill>
                  <a:srgbClr val="000000"/>
                </a:solidFill>
                <a:latin typeface="Arial"/>
                <a:ea typeface="Arial"/>
              </a:rPr>
              <a:t>mindestens einen</a:t>
            </a: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 Prüfer haben.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2" name="Rectangle 2"/>
          <p:cNvSpPr/>
          <p:nvPr/>
        </p:nvSpPr>
        <p:spPr>
          <a:xfrm>
            <a:off x="1486080" y="-49320"/>
            <a:ext cx="1104876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Rolleneinschränkungen (someValuesFrom)</a:t>
            </a:r>
            <a:endParaRPr b="0" lang="en-US" sz="5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6C106-A70E-47FF-8CF7-AA78DBC60781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/>
          </p:nvPr>
        </p:nvSpPr>
        <p:spPr>
          <a:xfrm>
            <a:off x="863640" y="2412720"/>
            <a:ext cx="12877920" cy="7645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Pruefung"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Restriction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Property rdf:resource="#hatPruefer"/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maxCardinality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datatype="&amp;xsd;nonNegativeInteger"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maxCardinality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Restriction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subClassOf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Eine Prüfung kann </a:t>
            </a:r>
            <a:r>
              <a:rPr b="0" i="1" lang="en-US" sz="3500" spc="-1" strike="noStrike">
                <a:solidFill>
                  <a:srgbClr val="000000"/>
                </a:solidFill>
                <a:latin typeface="Arial"/>
                <a:ea typeface="Arial"/>
              </a:rPr>
              <a:t>höchstens zwei</a:t>
            </a: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 Prüfer haben.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5" name="Rectangle 2"/>
          <p:cNvSpPr/>
          <p:nvPr/>
        </p:nvSpPr>
        <p:spPr>
          <a:xfrm>
            <a:off x="1486080" y="-49320"/>
            <a:ext cx="1104876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Rolleneinschränkungen (Kardinalitäten)</a:t>
            </a:r>
            <a:endParaRPr b="0" lang="en-US" sz="5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6" name="Text Box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3D2B7-0575-47E0-90C8-A37CFE16DC07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8BBD2-1593-4D16-A36B-08F05AEE18E7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F9762-8C8D-49B4-9360-381A516D5CB7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/>
          </p:nvPr>
        </p:nvSpPr>
        <p:spPr>
          <a:xfrm>
            <a:off x="1026720" y="2338560"/>
            <a:ext cx="11876040" cy="764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Pruefung"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Restriction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Property rdf:resource="#hatThema"/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minCardinality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datatype="&amp;xsd;nonNegativeInteger"&gt;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minCardinality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Restriction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subClassOf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Eine Prüfung muss sich über </a:t>
            </a:r>
            <a:r>
              <a:rPr b="0" i="1" lang="en-US" sz="3300" spc="-1" strike="noStrike">
                <a:solidFill>
                  <a:srgbClr val="000000"/>
                </a:solidFill>
                <a:latin typeface="Arial"/>
                <a:ea typeface="Arial"/>
              </a:rPr>
              <a:t>mindestens drei</a:t>
            </a: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 Themengebiete erstrecken.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9" name="Rectangle 2"/>
          <p:cNvSpPr/>
          <p:nvPr/>
        </p:nvSpPr>
        <p:spPr>
          <a:xfrm>
            <a:off x="1486080" y="-49320"/>
            <a:ext cx="1104876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Rolleneinschränkungen (Kardinalitäten)</a:t>
            </a:r>
            <a:endParaRPr b="0" lang="en-US" sz="5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30B0C-26D7-4ECF-A417-7830A3FFECFD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1331640" y="2109960"/>
            <a:ext cx="11876040" cy="764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Pruefung"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Restriction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Property rdf:resource="#hatThema"/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cardinality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datatype="&amp;xsd;nonNegativeInteger"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ardinality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Restriction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subClassOf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Eine Prüfung muss sich über </a:t>
            </a:r>
            <a:r>
              <a:rPr b="0" i="1" lang="en-US" sz="3700" spc="-1" strike="noStrike">
                <a:solidFill>
                  <a:srgbClr val="000000"/>
                </a:solidFill>
                <a:latin typeface="Arial"/>
                <a:ea typeface="Arial"/>
              </a:rPr>
              <a:t>genau drei</a:t>
            </a: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 Themengebiete erstrecken.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2" name="Rectangle 2"/>
          <p:cNvSpPr/>
          <p:nvPr/>
        </p:nvSpPr>
        <p:spPr>
          <a:xfrm>
            <a:off x="1486080" y="-49320"/>
            <a:ext cx="1104876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Rolleneinschränkungen (Kardinalitäten)</a:t>
            </a:r>
            <a:endParaRPr b="0" lang="en-US" sz="5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E7CA3-FDE9-44CC-8DB1-145F2347AAF1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/>
          </p:nvPr>
        </p:nvSpPr>
        <p:spPr>
          <a:xfrm>
            <a:off x="1396800" y="1980720"/>
            <a:ext cx="11876040" cy="76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8000"/>
          </a:bodyPr>
          <a:p>
            <a:pPr marL="5335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PruefungBeiStuder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335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equivalent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335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Restriction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335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Property rdf:resource="#hatPruefe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335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hasValu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RudiStude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335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Restriction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335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equivalent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335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335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hasValue</a:t>
            </a: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 verweist immer auf eine konkrete Instanz. Dies ist äquivalent zum Beispiel auf der nächsten Folie.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5" name="Rectangle 2"/>
          <p:cNvSpPr/>
          <p:nvPr/>
        </p:nvSpPr>
        <p:spPr>
          <a:xfrm>
            <a:off x="1486080" y="-49320"/>
            <a:ext cx="1104876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Rolleneinschränkungen </a:t>
            </a:r>
            <a:br>
              <a:rPr sz="5700"/>
            </a:b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(hasValue)</a:t>
            </a:r>
            <a:endParaRPr b="0" lang="en-US" sz="5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7728D-F940-4852-8EB9-723895714873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1636560" y="1804680"/>
            <a:ext cx="11876400" cy="886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PruefungBeiStuder"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equivalentClass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Restriction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Property rdf:resource="#hatPruefer"/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someValuesFrom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eOf rdf:parseType="Collection"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Thing rdf:about="#RudiStuder"/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neOf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someValuesFrom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Restriction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equivalentClass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8" name="Rectangle 2"/>
          <p:cNvSpPr/>
          <p:nvPr/>
        </p:nvSpPr>
        <p:spPr>
          <a:xfrm>
            <a:off x="1486080" y="-49320"/>
            <a:ext cx="1104876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Rolleneinschränkungen </a:t>
            </a:r>
            <a:br>
              <a:rPr sz="5700"/>
            </a:b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(hasValue)</a:t>
            </a:r>
            <a:endParaRPr b="0" lang="en-US" sz="5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D90C0-9EC6-491B-9556-F139F866B3BA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4DB95-FB20-4226-8763-9A1D18B7FF58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ollen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752120" y="2260440"/>
            <a:ext cx="1153188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rdf:ID="hatPruefer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Property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"#hatAnwesende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bjectProperty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benso: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 owl:equivalentProperty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ollen können auch invers zueinander sein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rdf:ID="hatPruefer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inverseOf rdf:resource="#prueferV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bjectProperty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40012-5F59-4838-B918-4EB68B604B9A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olleneigenschaf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Domain</a:t>
            </a:r>
            <a:endParaRPr b="0" lang="en-US" sz="39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Range</a:t>
            </a:r>
            <a:endParaRPr b="0" lang="en-US" sz="39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Transitivität, d.h.</a:t>
            </a:r>
            <a:br>
              <a:rPr sz="3900"/>
            </a:b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r(a,b) und r(b,c) impliziert r(a,c)</a:t>
            </a:r>
            <a:endParaRPr b="0" lang="en-US" sz="39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Symmetrie, d.h.</a:t>
            </a:r>
            <a:br>
              <a:rPr sz="3900"/>
            </a:b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r(a,b) impliziert r(b,a)</a:t>
            </a:r>
            <a:endParaRPr b="0" lang="en-US" sz="39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Funktionalität</a:t>
            </a:r>
            <a:br>
              <a:rPr sz="3900"/>
            </a:b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r(a,b) und r(a,c) impliziert b=c</a:t>
            </a:r>
            <a:endParaRPr b="0" lang="en-US" sz="39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Inverse Funktionalität</a:t>
            </a:r>
            <a:br>
              <a:rPr sz="3900"/>
            </a:b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r(a,b) und r(c,b) impliziert a=c</a:t>
            </a:r>
            <a:endParaRPr b="0" lang="en-US" sz="39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F21B4-4C80-4DDD-90A9-B7B95E24CD18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536480" y="317520"/>
            <a:ext cx="11048760" cy="151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omain und Rang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777680" y="1828440"/>
            <a:ext cx="12649320" cy="807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rdf:ID="Zugehoerigkeit"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range rdf:resource="#Organisation"/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bjectProperty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st gleichbedeutend mit dem Folgenden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\&amp;owl;Thing"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Restriction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Property rdf:resource="#Zugehoerigkeit"/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allValuesFrom rdf:resource="#Organisation"/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Restriction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subClassOf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B6850-748C-443D-A02C-686736165A41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650960" y="355680"/>
            <a:ext cx="11049120" cy="151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omain und Range: Vorsicht!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838160" y="2109960"/>
            <a:ext cx="11674800" cy="764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rdf:ID="Zugehoerigkeit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range rdf:resource="#Organis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bjectProperty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Zahl rdf:ID="Fuenf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Zugehoerigkeit rdf:resource="#Primzahle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Zahl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s folgt nun, dass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mzahlen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eine Organisation ist!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F4187-AD88-456D-9306-24D757E3086D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Rectangle 1"/>
          <p:cNvSpPr/>
          <p:nvPr/>
        </p:nvSpPr>
        <p:spPr>
          <a:xfrm>
            <a:off x="1536840" y="241200"/>
            <a:ext cx="1127736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olleneigenschaften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Rectangle 2"/>
          <p:cNvSpPr/>
          <p:nvPr/>
        </p:nvSpPr>
        <p:spPr>
          <a:xfrm>
            <a:off x="1587600" y="2022480"/>
            <a:ext cx="10909080" cy="74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rdf:ID="hatKollegen"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type rdf:resource="</a:t>
            </a:r>
            <a:r>
              <a:rPr b="1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owl;TransitiveProperty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type rdf:resource="</a:t>
            </a:r>
            <a:r>
              <a:rPr b="1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owl;SymmetricProperty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bjectProperty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rdf:ID="hatProjektleiter"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type rdf:resource="</a:t>
            </a:r>
            <a:r>
              <a:rPr b="1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owl;FunctionalProperty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bjectProperty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rdf:ID="istProjektleiterFuer"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type rdf:resource="</a:t>
            </a:r>
            <a:r>
              <a:rPr b="1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owl;InverseFunctionalProperty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bjectProperty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erson rdf:ID="YorkSure"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atKollegen rdf:resource="#PascalHitzler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atKollegen rdf:resource="#AnupriyaAnkolekar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istProjektleiterFuer rdf:resource="#SEKT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Person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rojekt rdf:ID="SmartWeb"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atProjektleiter rdf:resource="#PascalHitzler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atProjektleiter rdf:resource="#HitzlerPascal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Projekt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214F3-0686-4DE5-9DDB-0C82693650D2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1073160" y="1803240"/>
            <a:ext cx="11049120" cy="7950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griff existiert nur in der Einzahl (es gibt also keine „Ontologien“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zeichnet die </a:t>
            </a:r>
            <a:r>
              <a:rPr b="0" i="1" lang="en-US" sz="4200" spc="-1" strike="noStrike">
                <a:solidFill>
                  <a:srgbClr val="000000"/>
                </a:solidFill>
                <a:latin typeface="Helvetica Neue"/>
              </a:rPr>
              <a:t>„Lehre vom Sein“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 finden bei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Aristoteles (Sokrates), Thomas von Aquin, Descartes, Kant, Hegel, Wittgenstein, Heidegger, Quine, ..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0" name="Rectangle 2"/>
          <p:cNvSpPr/>
          <p:nvPr/>
        </p:nvSpPr>
        <p:spPr>
          <a:xfrm>
            <a:off x="1486080" y="304920"/>
            <a:ext cx="1104876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ntologie –philosophisch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FCA9A-31F7-42F4-95F1-BDFE12957879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Folgerungen aus dem Beispi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355680" y="2387160"/>
            <a:ext cx="1229184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AnupriyaAnkolekar hatKollegen YorkSur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AnupriyaAnkolekar hatKollegen PascalHitzle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PascalHitzler owl:sameAs HitzlerPasca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09A19-041F-4BEC-9DAE-64C4A3A91F1E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1F630-9485-4EA5-919E-74CDDCBB0F60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473120" y="444600"/>
            <a:ext cx="11049120" cy="13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Varian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977760" y="2007720"/>
            <a:ext cx="11049120" cy="774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OWL Ful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hält OWL DL und OWL Lite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hält als einzige OWL-Teilsprache ganz RDFS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mantik enthält einige Aspekte, die aus logischem Blickwinkel problematisch sind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Unentscheidbar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Wird durch aktuelle Softwarewerkzeuge nur bedingt unterstützt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OWL D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hält OWL Lite und ist Teilsprache von OWL Full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scheidbar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Wird von aktuellen Softwarewerkzeugen fast vollständig unterstützt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Komplexität NExpTime (worst-case)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OWL Lite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Ist Teilsprache von OWL DL und OWL Full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scheidbar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Wenig ausdrucksstark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Komplexität ExpTime (worst-case)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97326-C52F-494D-8B2C-B290FA9D104A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Ful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894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Uneingeschränkte Nutzung aller OWL und RDFS-Sprachelemente (muss gültiges RDFS sein).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Schwierig z.B.: nicht vorhandene Typentrennung (Klassen, Rollen, Individuen), dadurch: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Thing</a:t>
            </a: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 dasselbe wie </a:t>
            </a: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resource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Class</a:t>
            </a: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 dasselbe wie </a:t>
            </a: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Class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atatypeProperty </a:t>
            </a: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Subklasse von </a:t>
            </a: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ObjectProperty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ObjectProperty</a:t>
            </a: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 dasselbe wie </a:t>
            </a: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Property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123BE-E8B3-445C-A7B8-B0DE218756CA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536840" y="13932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Bodoni SvtyTwo SC ITC TT-Book"/>
              </a:rPr>
              <a:t>Beispiel für Typendurchmischung </a:t>
            </a:r>
            <a:br>
              <a:rPr sz="5200"/>
            </a:br>
            <a:r>
              <a:rPr b="0" lang="en-US" sz="5200" spc="-1" strike="noStrike">
                <a:solidFill>
                  <a:srgbClr val="000000"/>
                </a:solidFill>
                <a:latin typeface="Bodoni SvtyTwo SC ITC TT-Book"/>
              </a:rPr>
              <a:t>in OWL Full</a:t>
            </a:r>
            <a:endParaRPr b="0" lang="en-US" sz="5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60020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Buch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englischerName rdf:datatype="&amp;xsd;string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book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englischerName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franzoesischerName rdf:datatype="&amp;xsd;string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livr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franzoesischerName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ferenzen über solche Konstrukte werden oft nicht wirklich benötigt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FF6D4-EB74-4EEB-958A-E839CC5EC026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D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86184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Nur Verwendung von explizit erlaubten RDFS Sprachelementen (z.B. die in unseren Beispielen).</a:t>
            </a:r>
            <a:br>
              <a:rPr sz="3700"/>
            </a:b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Nicht erlaubt: </a:t>
            </a: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Class</a:t>
            </a: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, </a:t>
            </a: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Property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marL="86184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Typentrennung. Klassen und Rollen müssen explizit deklariert werden.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marL="86184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Konkrete Rollen dürfen nicht als transitiv, symmetrisch, invers oder invers funktional deklariert werden.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marL="86184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Zahlenrestriktionen dürfen nicht mit transitiven Rollen, deren Subrollen, oder Inversen davon verwendet werden.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D65FE-6BDC-446C-BB22-3C95C05FF2B7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Lit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lle Einschränkungen für OWL D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ußerdem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nicht erlaubt: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oneOf, unionOf, complementOf, hasValue, disjointWith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Zahlenrestriktionen nur mit 0 und 1 erlaubt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inige Einschränkungen zum Auftreten von anonymen (komplexen) Klassen, z.B. nur im Subjekt von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subClassOf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EFC6C-AF33-4ECA-B736-95F591D11042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73190-6E05-4B28-8A4F-31305DB94189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486080" y="25200"/>
            <a:ext cx="1127736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Bodoni SvtyTwo SC ITC TT-Book"/>
              </a:rPr>
              <a:t>Terminologische Anfragen an OWL </a:t>
            </a:r>
            <a:br>
              <a:rPr sz="5500"/>
            </a:br>
            <a:r>
              <a:rPr b="0" lang="en-US" sz="5500" spc="-1" strike="noStrike">
                <a:solidFill>
                  <a:srgbClr val="000000"/>
                </a:solidFill>
                <a:latin typeface="Bodoni SvtyTwo SC ITC TT-Book"/>
              </a:rPr>
              <a:t>(nur Klassen und Rollen)</a:t>
            </a:r>
            <a:endParaRPr b="0" lang="en-US" sz="55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56824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8000"/>
          </a:bodyPr>
          <a:p>
            <a:pPr marL="870840" indent="-5598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Klassenäquivalenz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870840" indent="-5598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Subklassenbeziehung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870840" indent="-5598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Disjunktheit von Klassen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870840" indent="-5598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globale Konsistenz (Erfüllbarkeit, Widerspruchsfreiheit)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870840" indent="-5598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Klassenkonsistenz: Eine Klasse ist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nkonsistent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, wenn sie äquivalent zu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Nothing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ist - dies deutet oft auf einen Modellierungsfehler hin: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1092240"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10922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Buch"&gt;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10922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subClassOf rdf:resource="#Publikation"/&gt;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10922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disjointWith rdf:resource="#Publikation"/&gt;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10922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72ED6-0599-4F7F-A323-5A492CA0C413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536840" y="12600"/>
            <a:ext cx="11277360" cy="1765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Bodoni SvtyTwo SC ITC TT-Book"/>
              </a:rPr>
              <a:t>Assertionale Anfragen an OWL </a:t>
            </a:r>
            <a:br>
              <a:rPr sz="5500"/>
            </a:br>
            <a:r>
              <a:rPr b="0" lang="en-US" sz="5500" spc="-1" strike="noStrike">
                <a:solidFill>
                  <a:srgbClr val="000000"/>
                </a:solidFill>
                <a:latin typeface="Bodoni SvtyTwo SC ITC TT-Book"/>
              </a:rPr>
              <a:t>(mit Individuen)</a:t>
            </a:r>
            <a:endParaRPr b="0" lang="en-US" sz="55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270080" y="2018880"/>
            <a:ext cx="11531520" cy="772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Instanzüberprüfung: Gehört gegebenes Individuum zu gegebener Klasse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Suche nach allen Individuen, die in einer Klasse enthalten sind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Werden zwei gegebene Individuen durch Rolle verknüpft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Suche nach allen Individuenpaaren, die durch eine Rolle verknüpft sind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...Vorsicht: es wird nur nach „beweisbaren“ Antworten gesucht!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A434C-3E0B-4065-928D-422DA05261FD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85720" y="304920"/>
            <a:ext cx="11048760" cy="1409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ntologie – informatisch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279360" y="2146320"/>
            <a:ext cx="11049120" cy="7696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Gruber (1993):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„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 Ontology is a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4200" spc="-1" strike="noStrike">
                <a:solidFill>
                  <a:srgbClr val="006600"/>
                </a:solidFill>
                <a:latin typeface="Helvetica Neue"/>
              </a:rPr>
              <a:t>formal specific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 a </a:t>
            </a:r>
            <a:r>
              <a:rPr b="0" lang="en-US" sz="4200" spc="-1" strike="noStrike">
                <a:solidFill>
                  <a:srgbClr val="006600"/>
                </a:solidFill>
                <a:latin typeface="Helvetica Neue"/>
              </a:rPr>
              <a:t>shared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4200" spc="-1" strike="noStrike">
                <a:solidFill>
                  <a:srgbClr val="006600"/>
                </a:solidFill>
                <a:latin typeface="Helvetica Neue"/>
              </a:rPr>
              <a:t>conceptualiz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 a </a:t>
            </a:r>
            <a:r>
              <a:rPr b="0" lang="en-US" sz="4200" spc="-1" strike="noStrike">
                <a:solidFill>
                  <a:srgbClr val="006600"/>
                </a:solidFill>
                <a:latin typeface="Helvetica Neue"/>
              </a:rPr>
              <a:t>domain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of interest“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321600" y="4506840"/>
            <a:ext cx="66801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6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Font typeface="Symbol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aschinell interpretierbar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Font typeface="Symbol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eruht auf Konsen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Font typeface="Symbol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eschreibt Begrifflichkeiten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Font typeface="Symbol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ezogen auf ein „Thema“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   (Gegenstandsbereich)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56A6E-D767-4D2E-B10B-1DCE6E4C0E28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Werkzeug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359000" y="2082960"/>
            <a:ext cx="12191760" cy="8089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Editoren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Protegé, http://protege.stanford.edu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SWOOP, http://www.mindswap.org/2004/SWOOP/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OWL Tools, http://owltools.ontoware.org/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Inferenzmaschinen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Pellet, http://www.mindswap.org/2003/pellet/index.shtml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KAON2, http://kaon2.semanticweb.org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FACT++, http://owl.man.ac.uk/factplusplus/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Racer, http://www.racer-systems.com/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Cerebra, http://www.cerebra.com/index.html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0" name="Text Box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0D7E8-B8A1-479F-99E5-8719CF6A3573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F77E1-0360-4141-9B23-86EBC23089D7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/>
          </p:nvPr>
        </p:nvSpPr>
        <p:spPr>
          <a:xfrm>
            <a:off x="355320" y="2315880"/>
            <a:ext cx="6553080" cy="7437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-4874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Kopf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comment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label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seeAls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isDefinedBy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versionInf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priorVersio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backwardCompatibleWith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incompatibleWith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eprecatedClas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eprecatedProperty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import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3" name="Rectangle 2"/>
          <p:cNvSpPr/>
          <p:nvPr/>
        </p:nvSpPr>
        <p:spPr>
          <a:xfrm>
            <a:off x="6707160" y="2109960"/>
            <a:ext cx="5423040" cy="56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ziehungen zwischen Individue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sameA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ifferentFrom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AllDifferen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zusammen mit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owl:distinctMe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orgeschriebene Datentype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xsd:stro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xsd:integ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4" name="Rectangle 3"/>
          <p:cNvSpPr/>
          <p:nvPr/>
        </p:nvSpPr>
        <p:spPr>
          <a:xfrm>
            <a:off x="1536840" y="241200"/>
            <a:ext cx="1127736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Sprachelemente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5ED47-D54F-44A7-9D58-53A434ED8EDB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Sprachelement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542304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-4874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Klassenkonstruktoren und -beziehunge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Clas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Thing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Nothing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subClassOf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isjointWith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equivalentClas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intersectionOf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unionOf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complementOf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8" name="Rectangle 3"/>
          <p:cNvSpPr/>
          <p:nvPr/>
        </p:nvSpPr>
        <p:spPr>
          <a:xfrm>
            <a:off x="6616800" y="2387520"/>
            <a:ext cx="5422680" cy="38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ollenrestriktione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allValuesFrom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someValuesFrom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hasValu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cardinalit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minCardinalit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maxCardinalit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oneOf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0FEA7-3F19-4B82-9E34-3BBA4C79DE48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/>
          </p:nvPr>
        </p:nvSpPr>
        <p:spPr>
          <a:xfrm>
            <a:off x="665280" y="2214360"/>
            <a:ext cx="11672640" cy="753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-4874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ollenkonstruktoren, -beziehungen und -eigenschaf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ObjectProperty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atatypeProperty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subPropertyOf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equivalentProperty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inverseOf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domai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rang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“&amp;owl;TransitiveProperty“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“&amp;owl;SymmetricProperty“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“&amp;owl;FunctionalProperty“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“&amp;owl;InverseFunctionalProperty“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1" name="Rectangle 2"/>
          <p:cNvSpPr/>
          <p:nvPr/>
        </p:nvSpPr>
        <p:spPr>
          <a:xfrm>
            <a:off x="1536840" y="241200"/>
            <a:ext cx="1127736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Sprachelemente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D7F0D-0A69-4673-A724-A0E67B42A173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Weiterführende Literatur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977400" y="2387160"/>
            <a:ext cx="1177308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2680" indent="-34308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www.w3.org/2004/OWL/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zentrale W3C Webseite für OWL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www.w3.org/TR/owl-features/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Überblick über OWL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www.w3.org/TR/owl-ref/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vollständige Beschreibung der OWL-Sprachkomponenten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www.w3.org/TR/owl-guide/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zeigt, wie OWL zur Wissensmodellierung verwendet werden kann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www.w3.org/TR/owl-semantics/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beschreibt die Semantik von OWL, die wir auf andere Weise später behandeln werden. Es beschreibt außerdem die abstrakte Syntax für OWL DL, die wir hier später noch ansprechen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Deutsche Übersetzungen mancher W3C Dokumente findet man unt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www.w3.org/2005/11/Translations/Lists/ListLang-de.html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2A2F5-6E6E-4ABA-B035-A22921CC6FA6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511280" y="-318960"/>
            <a:ext cx="11049120" cy="205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Bodoni SvtyTwo SC ITC TT-Book"/>
              </a:rPr>
              <a:t>Ontologie – praktisch</a:t>
            </a:r>
            <a:br>
              <a:rPr sz="5600"/>
            </a:br>
            <a:r>
              <a:rPr b="0" lang="en-US" sz="5600" spc="-1" strike="noStrike">
                <a:solidFill>
                  <a:srgbClr val="000000"/>
                </a:solidFill>
                <a:latin typeface="Bodoni SvtyTwo SC ITC TT-Book"/>
              </a:rPr>
              <a:t>Einige Anforderungen</a:t>
            </a:r>
            <a:endParaRPr b="0" lang="en-US" sz="56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270080" y="2018880"/>
            <a:ext cx="11531520" cy="990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Instanziierung von Klassen durch Individuen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Begriffshierarchien (Taxonomien, „Vererbung“): 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Klassen, Begriffe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binäre Relationen zwischen Individuen: Properties, Roles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Eigenschaften von Relationen (z.B. range, transitive)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Datentypen (z.B. Zahlen): concrete domains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logische Ausdrucksmittel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klare Semantik!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A080C-555E-4407-BD9B-899F607C2756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89" name="Group 1"/>
          <p:cNvGrpSpPr/>
          <p:nvPr/>
        </p:nvGrpSpPr>
        <p:grpSpPr>
          <a:xfrm>
            <a:off x="190440" y="4241880"/>
            <a:ext cx="1625760" cy="546120"/>
            <a:chOff x="190440" y="4241880"/>
            <a:chExt cx="1625760" cy="546120"/>
          </a:xfrm>
        </p:grpSpPr>
        <p:sp>
          <p:nvSpPr>
            <p:cNvPr id="390" name="Oval 2"/>
            <p:cNvSpPr/>
            <p:nvPr/>
          </p:nvSpPr>
          <p:spPr>
            <a:xfrm>
              <a:off x="190440" y="4241880"/>
              <a:ext cx="162576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1" name="Rectangle 3"/>
            <p:cNvSpPr/>
            <p:nvPr/>
          </p:nvSpPr>
          <p:spPr>
            <a:xfrm>
              <a:off x="416520" y="4348800"/>
              <a:ext cx="117864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Professor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392" name="Group 4"/>
          <p:cNvGrpSpPr/>
          <p:nvPr/>
        </p:nvGrpSpPr>
        <p:grpSpPr>
          <a:xfrm>
            <a:off x="1282680" y="3048120"/>
            <a:ext cx="1625760" cy="546120"/>
            <a:chOff x="1282680" y="3048120"/>
            <a:chExt cx="1625760" cy="546120"/>
          </a:xfrm>
        </p:grpSpPr>
        <p:sp>
          <p:nvSpPr>
            <p:cNvPr id="393" name="Oval 5"/>
            <p:cNvSpPr/>
            <p:nvPr/>
          </p:nvSpPr>
          <p:spPr>
            <a:xfrm>
              <a:off x="1282680" y="3048120"/>
              <a:ext cx="162576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4" name="Rectangle 6"/>
            <p:cNvSpPr/>
            <p:nvPr/>
          </p:nvSpPr>
          <p:spPr>
            <a:xfrm>
              <a:off x="1481400" y="3155040"/>
              <a:ext cx="121392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Employee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395" name="Group 7"/>
          <p:cNvGrpSpPr/>
          <p:nvPr/>
        </p:nvGrpSpPr>
        <p:grpSpPr>
          <a:xfrm>
            <a:off x="5931000" y="4013280"/>
            <a:ext cx="1625400" cy="546120"/>
            <a:chOff x="5931000" y="4013280"/>
            <a:chExt cx="1625400" cy="546120"/>
          </a:xfrm>
        </p:grpSpPr>
        <p:sp>
          <p:nvSpPr>
            <p:cNvPr id="396" name="Oval 8"/>
            <p:cNvSpPr/>
            <p:nvPr/>
          </p:nvSpPr>
          <p:spPr>
            <a:xfrm>
              <a:off x="5931000" y="4013280"/>
              <a:ext cx="162540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7" name="Rectangle 9"/>
            <p:cNvSpPr/>
            <p:nvPr/>
          </p:nvSpPr>
          <p:spPr>
            <a:xfrm>
              <a:off x="6012360" y="4132800"/>
              <a:ext cx="147132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PhD-Student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398" name="Group 10"/>
          <p:cNvGrpSpPr/>
          <p:nvPr/>
        </p:nvGrpSpPr>
        <p:grpSpPr>
          <a:xfrm>
            <a:off x="4203720" y="3048120"/>
            <a:ext cx="1625760" cy="546120"/>
            <a:chOff x="4203720" y="3048120"/>
            <a:chExt cx="1625760" cy="546120"/>
          </a:xfrm>
        </p:grpSpPr>
        <p:sp>
          <p:nvSpPr>
            <p:cNvPr id="399" name="Oval 11"/>
            <p:cNvSpPr/>
            <p:nvPr/>
          </p:nvSpPr>
          <p:spPr>
            <a:xfrm>
              <a:off x="4203720" y="3048120"/>
              <a:ext cx="162576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00" name="Rectangle 12"/>
            <p:cNvSpPr/>
            <p:nvPr/>
          </p:nvSpPr>
          <p:spPr>
            <a:xfrm>
              <a:off x="4510440" y="3155040"/>
              <a:ext cx="100944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Student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01" name="Group 13"/>
          <p:cNvGrpSpPr/>
          <p:nvPr/>
        </p:nvGrpSpPr>
        <p:grpSpPr>
          <a:xfrm>
            <a:off x="2577960" y="3911760"/>
            <a:ext cx="1625760" cy="546120"/>
            <a:chOff x="2577960" y="3911760"/>
            <a:chExt cx="1625760" cy="546120"/>
          </a:xfrm>
        </p:grpSpPr>
        <p:sp>
          <p:nvSpPr>
            <p:cNvPr id="402" name="Oval 14"/>
            <p:cNvSpPr/>
            <p:nvPr/>
          </p:nvSpPr>
          <p:spPr>
            <a:xfrm>
              <a:off x="2577960" y="3911760"/>
              <a:ext cx="162576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03" name="Rectangle 15"/>
            <p:cNvSpPr/>
            <p:nvPr/>
          </p:nvSpPr>
          <p:spPr>
            <a:xfrm>
              <a:off x="2998080" y="4018680"/>
              <a:ext cx="78264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Tutor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04" name="Group 16"/>
          <p:cNvGrpSpPr/>
          <p:nvPr/>
        </p:nvGrpSpPr>
        <p:grpSpPr>
          <a:xfrm>
            <a:off x="2577960" y="1955880"/>
            <a:ext cx="1625760" cy="546120"/>
            <a:chOff x="2577960" y="1955880"/>
            <a:chExt cx="1625760" cy="546120"/>
          </a:xfrm>
        </p:grpSpPr>
        <p:sp>
          <p:nvSpPr>
            <p:cNvPr id="405" name="Oval 17"/>
            <p:cNvSpPr/>
            <p:nvPr/>
          </p:nvSpPr>
          <p:spPr>
            <a:xfrm>
              <a:off x="2577960" y="1955880"/>
              <a:ext cx="162576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06" name="Rectangle 18"/>
            <p:cNvSpPr/>
            <p:nvPr/>
          </p:nvSpPr>
          <p:spPr>
            <a:xfrm>
              <a:off x="2861640" y="2062800"/>
              <a:ext cx="10551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dfs:Class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07" name="AutoShape 19"/>
          <p:cNvSpPr/>
          <p:nvPr/>
        </p:nvSpPr>
        <p:spPr>
          <a:xfrm flipH="1" rot="10800000">
            <a:off x="1002240" y="3525840"/>
            <a:ext cx="507960" cy="68904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AutoShape 20"/>
          <p:cNvSpPr/>
          <p:nvPr/>
        </p:nvSpPr>
        <p:spPr>
          <a:xfrm rot="10800000">
            <a:off x="2664000" y="3525840"/>
            <a:ext cx="149040" cy="44280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AutoShape 21"/>
          <p:cNvSpPr/>
          <p:nvPr/>
        </p:nvSpPr>
        <p:spPr>
          <a:xfrm flipH="1" rot="10800000">
            <a:off x="3964320" y="3525840"/>
            <a:ext cx="473400" cy="44280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AutoShape 22"/>
          <p:cNvSpPr/>
          <p:nvPr/>
        </p:nvSpPr>
        <p:spPr>
          <a:xfrm rot="10800000">
            <a:off x="5591160" y="3525840"/>
            <a:ext cx="582480" cy="55080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AutoShape 23"/>
          <p:cNvSpPr/>
          <p:nvPr/>
        </p:nvSpPr>
        <p:spPr>
          <a:xfrm flipH="1" rot="5400000">
            <a:off x="4849560" y="1605960"/>
            <a:ext cx="1847880" cy="3101760"/>
          </a:xfrm>
          <a:prstGeom prst="pie">
            <a:avLst/>
          </a:prstGeom>
          <a:noFill/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AutoShape 24"/>
          <p:cNvSpPr/>
          <p:nvPr/>
        </p:nvSpPr>
        <p:spPr>
          <a:xfrm rot="16200000">
            <a:off x="459360" y="2202120"/>
            <a:ext cx="2063880" cy="2125440"/>
          </a:xfrm>
          <a:prstGeom prst="pie">
            <a:avLst/>
          </a:prstGeom>
          <a:noFill/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Line 25"/>
          <p:cNvSpPr/>
          <p:nvPr/>
        </p:nvSpPr>
        <p:spPr>
          <a:xfrm flipV="1">
            <a:off x="3390120" y="2520720"/>
            <a:ext cx="1800" cy="13683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414" name="Group 26"/>
          <p:cNvGrpSpPr/>
          <p:nvPr/>
        </p:nvGrpSpPr>
        <p:grpSpPr>
          <a:xfrm>
            <a:off x="190440" y="5207040"/>
            <a:ext cx="1625760" cy="546120"/>
            <a:chOff x="190440" y="5207040"/>
            <a:chExt cx="1625760" cy="546120"/>
          </a:xfrm>
        </p:grpSpPr>
        <p:sp>
          <p:nvSpPr>
            <p:cNvPr id="415" name="Oval 27"/>
            <p:cNvSpPr/>
            <p:nvPr/>
          </p:nvSpPr>
          <p:spPr>
            <a:xfrm>
              <a:off x="190440" y="5207040"/>
              <a:ext cx="1625760" cy="546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16" name="Rectangle 28"/>
            <p:cNvSpPr/>
            <p:nvPr/>
          </p:nvSpPr>
          <p:spPr>
            <a:xfrm>
              <a:off x="641160" y="5313960"/>
              <a:ext cx="7275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Rudi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17" name="Group 29"/>
          <p:cNvGrpSpPr/>
          <p:nvPr/>
        </p:nvGrpSpPr>
        <p:grpSpPr>
          <a:xfrm>
            <a:off x="5397480" y="5207040"/>
            <a:ext cx="1625760" cy="546120"/>
            <a:chOff x="5397480" y="5207040"/>
            <a:chExt cx="1625760" cy="546120"/>
          </a:xfrm>
        </p:grpSpPr>
        <p:sp>
          <p:nvSpPr>
            <p:cNvPr id="418" name="Oval 30"/>
            <p:cNvSpPr/>
            <p:nvPr/>
          </p:nvSpPr>
          <p:spPr>
            <a:xfrm>
              <a:off x="5397480" y="5207040"/>
              <a:ext cx="1625760" cy="546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19" name="Rectangle 31"/>
            <p:cNvSpPr/>
            <p:nvPr/>
          </p:nvSpPr>
          <p:spPr>
            <a:xfrm>
              <a:off x="5763960" y="5313960"/>
              <a:ext cx="885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Daniel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20" name="Group 32"/>
          <p:cNvGrpSpPr/>
          <p:nvPr/>
        </p:nvGrpSpPr>
        <p:grpSpPr>
          <a:xfrm>
            <a:off x="2362320" y="5207040"/>
            <a:ext cx="1625400" cy="546120"/>
            <a:chOff x="2362320" y="5207040"/>
            <a:chExt cx="1625400" cy="546120"/>
          </a:xfrm>
        </p:grpSpPr>
        <p:sp>
          <p:nvSpPr>
            <p:cNvPr id="421" name="Oval 33"/>
            <p:cNvSpPr/>
            <p:nvPr/>
          </p:nvSpPr>
          <p:spPr>
            <a:xfrm>
              <a:off x="2362320" y="5207040"/>
              <a:ext cx="1625400" cy="546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22" name="Rectangle 34"/>
            <p:cNvSpPr/>
            <p:nvPr/>
          </p:nvSpPr>
          <p:spPr>
            <a:xfrm>
              <a:off x="2639160" y="5313960"/>
              <a:ext cx="1065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Raphael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23" name="AutoShape 35"/>
          <p:cNvSpPr/>
          <p:nvPr/>
        </p:nvSpPr>
        <p:spPr>
          <a:xfrm rot="10800000">
            <a:off x="2095200" y="3605040"/>
            <a:ext cx="507960" cy="1663920"/>
          </a:xfrm>
          <a:prstGeom prst="pie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Line 36"/>
          <p:cNvSpPr/>
          <p:nvPr/>
        </p:nvSpPr>
        <p:spPr>
          <a:xfrm flipV="1">
            <a:off x="1003320" y="4797000"/>
            <a:ext cx="1440" cy="3920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AutoShape 37"/>
          <p:cNvSpPr/>
          <p:nvPr/>
        </p:nvSpPr>
        <p:spPr>
          <a:xfrm rot="10800000">
            <a:off x="5016240" y="3605040"/>
            <a:ext cx="615960" cy="1663920"/>
          </a:xfrm>
          <a:prstGeom prst="pie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6" name="AutoShape 38"/>
          <p:cNvSpPr/>
          <p:nvPr/>
        </p:nvSpPr>
        <p:spPr>
          <a:xfrm rot="16200000">
            <a:off x="4575960" y="3672720"/>
            <a:ext cx="768240" cy="2424240"/>
          </a:xfrm>
          <a:prstGeom prst="pie">
            <a:avLst/>
          </a:prstGeom>
          <a:noFill/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AutoShape 39"/>
          <p:cNvSpPr/>
          <p:nvPr/>
        </p:nvSpPr>
        <p:spPr>
          <a:xfrm flipH="1" rot="10800000">
            <a:off x="2094480" y="2442960"/>
            <a:ext cx="723960" cy="579240"/>
          </a:xfrm>
          <a:prstGeom prst="pie">
            <a:avLst/>
          </a:prstGeom>
          <a:blipFill rotWithShape="0">
            <a:blip r:embed="rId7"/>
            <a:srcRect/>
            <a:tile tx="0" ty="0" sx="100000" sy="100000" algn="ctr"/>
          </a:blipFill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AutoShape 40"/>
          <p:cNvSpPr/>
          <p:nvPr/>
        </p:nvSpPr>
        <p:spPr>
          <a:xfrm rot="10800000">
            <a:off x="3965040" y="2442960"/>
            <a:ext cx="1049400" cy="579240"/>
          </a:xfrm>
          <a:prstGeom prst="pie">
            <a:avLst/>
          </a:prstGeom>
          <a:blipFill rotWithShape="0">
            <a:blip r:embed="rId8"/>
            <a:srcRect/>
            <a:tile tx="0" ty="0" sx="100000" sy="100000" algn="ctr"/>
          </a:blipFill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Line 41"/>
          <p:cNvSpPr/>
          <p:nvPr/>
        </p:nvSpPr>
        <p:spPr>
          <a:xfrm flipV="1">
            <a:off x="8115480" y="3250800"/>
            <a:ext cx="1440" cy="544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Line 42"/>
          <p:cNvSpPr/>
          <p:nvPr/>
        </p:nvSpPr>
        <p:spPr>
          <a:xfrm flipV="1">
            <a:off x="8115480" y="3898440"/>
            <a:ext cx="1440" cy="5446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Rectangle 43"/>
          <p:cNvSpPr/>
          <p:nvPr/>
        </p:nvSpPr>
        <p:spPr>
          <a:xfrm>
            <a:off x="8190000" y="3338640"/>
            <a:ext cx="1225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ubClass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Rectangle 44"/>
          <p:cNvSpPr/>
          <p:nvPr/>
        </p:nvSpPr>
        <p:spPr>
          <a:xfrm>
            <a:off x="8184600" y="4076640"/>
            <a:ext cx="18950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Instanziierung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Rectangle 45"/>
          <p:cNvSpPr/>
          <p:nvPr/>
        </p:nvSpPr>
        <p:spPr>
          <a:xfrm>
            <a:off x="6885000" y="2247840"/>
            <a:ext cx="1908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Klasse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434" name="Group 46"/>
          <p:cNvGrpSpPr/>
          <p:nvPr/>
        </p:nvGrpSpPr>
        <p:grpSpPr>
          <a:xfrm>
            <a:off x="5219640" y="6464160"/>
            <a:ext cx="1955880" cy="546120"/>
            <a:chOff x="5219640" y="6464160"/>
            <a:chExt cx="1955880" cy="546120"/>
          </a:xfrm>
        </p:grpSpPr>
        <p:sp>
          <p:nvSpPr>
            <p:cNvPr id="435" name="Oval 47"/>
            <p:cNvSpPr/>
            <p:nvPr/>
          </p:nvSpPr>
          <p:spPr>
            <a:xfrm>
              <a:off x="5219640" y="6464160"/>
              <a:ext cx="195588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36" name="Rectangle 48"/>
            <p:cNvSpPr/>
            <p:nvPr/>
          </p:nvSpPr>
          <p:spPr>
            <a:xfrm>
              <a:off x="5606640" y="6571080"/>
              <a:ext cx="117864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Professor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37" name="Group 49"/>
          <p:cNvGrpSpPr/>
          <p:nvPr/>
        </p:nvGrpSpPr>
        <p:grpSpPr>
          <a:xfrm>
            <a:off x="5219640" y="7327800"/>
            <a:ext cx="1955880" cy="546120"/>
            <a:chOff x="5219640" y="7327800"/>
            <a:chExt cx="1955880" cy="546120"/>
          </a:xfrm>
        </p:grpSpPr>
        <p:sp>
          <p:nvSpPr>
            <p:cNvPr id="438" name="Oval 50"/>
            <p:cNvSpPr/>
            <p:nvPr/>
          </p:nvSpPr>
          <p:spPr>
            <a:xfrm>
              <a:off x="5219640" y="7327800"/>
              <a:ext cx="195588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39" name="Rectangle 51"/>
            <p:cNvSpPr/>
            <p:nvPr/>
          </p:nvSpPr>
          <p:spPr>
            <a:xfrm>
              <a:off x="5460480" y="7434720"/>
              <a:ext cx="147132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PhD-Student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40" name="Group 52"/>
          <p:cNvGrpSpPr/>
          <p:nvPr/>
        </p:nvGrpSpPr>
        <p:grpSpPr>
          <a:xfrm>
            <a:off x="7924680" y="5816520"/>
            <a:ext cx="1955880" cy="546120"/>
            <a:chOff x="7924680" y="5816520"/>
            <a:chExt cx="1955880" cy="546120"/>
          </a:xfrm>
        </p:grpSpPr>
        <p:sp>
          <p:nvSpPr>
            <p:cNvPr id="441" name="Oval 53"/>
            <p:cNvSpPr/>
            <p:nvPr/>
          </p:nvSpPr>
          <p:spPr>
            <a:xfrm>
              <a:off x="7924680" y="5816520"/>
              <a:ext cx="1955880" cy="546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42" name="Rectangle 54"/>
            <p:cNvSpPr/>
            <p:nvPr/>
          </p:nvSpPr>
          <p:spPr>
            <a:xfrm>
              <a:off x="8506800" y="5923440"/>
              <a:ext cx="79632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email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43" name="Group 55"/>
          <p:cNvGrpSpPr/>
          <p:nvPr/>
        </p:nvGrpSpPr>
        <p:grpSpPr>
          <a:xfrm>
            <a:off x="8039160" y="8953560"/>
            <a:ext cx="1955880" cy="546120"/>
            <a:chOff x="8039160" y="8953560"/>
            <a:chExt cx="1955880" cy="546120"/>
          </a:xfrm>
        </p:grpSpPr>
        <p:sp>
          <p:nvSpPr>
            <p:cNvPr id="444" name="Oval 56"/>
            <p:cNvSpPr/>
            <p:nvPr/>
          </p:nvSpPr>
          <p:spPr>
            <a:xfrm>
              <a:off x="8039160" y="8953560"/>
              <a:ext cx="1955880" cy="546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45" name="Rectangle 57"/>
            <p:cNvSpPr/>
            <p:nvPr/>
          </p:nvSpPr>
          <p:spPr>
            <a:xfrm>
              <a:off x="8372160" y="9060480"/>
              <a:ext cx="128232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supervises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46" name="Group 58"/>
          <p:cNvGrpSpPr/>
          <p:nvPr/>
        </p:nvGrpSpPr>
        <p:grpSpPr>
          <a:xfrm>
            <a:off x="8039160" y="6896160"/>
            <a:ext cx="1955880" cy="546120"/>
            <a:chOff x="8039160" y="6896160"/>
            <a:chExt cx="1955880" cy="546120"/>
          </a:xfrm>
        </p:grpSpPr>
        <p:sp>
          <p:nvSpPr>
            <p:cNvPr id="447" name="Oval 59"/>
            <p:cNvSpPr/>
            <p:nvPr/>
          </p:nvSpPr>
          <p:spPr>
            <a:xfrm>
              <a:off x="8039160" y="6896160"/>
              <a:ext cx="1955880" cy="546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48" name="Rectangle 60"/>
            <p:cNvSpPr/>
            <p:nvPr/>
          </p:nvSpPr>
          <p:spPr>
            <a:xfrm>
              <a:off x="8513640" y="7003080"/>
              <a:ext cx="100044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advises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49" name="Group 61"/>
          <p:cNvGrpSpPr/>
          <p:nvPr/>
        </p:nvGrpSpPr>
        <p:grpSpPr>
          <a:xfrm>
            <a:off x="5334120" y="8953560"/>
            <a:ext cx="1955520" cy="546120"/>
            <a:chOff x="5334120" y="8953560"/>
            <a:chExt cx="1955520" cy="546120"/>
          </a:xfrm>
        </p:grpSpPr>
        <p:sp>
          <p:nvSpPr>
            <p:cNvPr id="450" name="Oval 62"/>
            <p:cNvSpPr/>
            <p:nvPr/>
          </p:nvSpPr>
          <p:spPr>
            <a:xfrm>
              <a:off x="5334120" y="8953560"/>
              <a:ext cx="195552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51" name="Rectangle 63"/>
            <p:cNvSpPr/>
            <p:nvPr/>
          </p:nvSpPr>
          <p:spPr>
            <a:xfrm>
              <a:off x="5697360" y="9060480"/>
              <a:ext cx="121392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Employee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52" name="Group 64"/>
          <p:cNvGrpSpPr/>
          <p:nvPr/>
        </p:nvGrpSpPr>
        <p:grpSpPr>
          <a:xfrm>
            <a:off x="10858680" y="8953560"/>
            <a:ext cx="1955520" cy="546120"/>
            <a:chOff x="10858680" y="8953560"/>
            <a:chExt cx="1955520" cy="546120"/>
          </a:xfrm>
        </p:grpSpPr>
        <p:sp>
          <p:nvSpPr>
            <p:cNvPr id="453" name="Oval 65"/>
            <p:cNvSpPr/>
            <p:nvPr/>
          </p:nvSpPr>
          <p:spPr>
            <a:xfrm>
              <a:off x="10858680" y="8953560"/>
              <a:ext cx="195552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54" name="Rectangle 66"/>
            <p:cNvSpPr/>
            <p:nvPr/>
          </p:nvSpPr>
          <p:spPr>
            <a:xfrm>
              <a:off x="11224440" y="9060480"/>
              <a:ext cx="121392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Employee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55" name="Group 67"/>
          <p:cNvGrpSpPr/>
          <p:nvPr/>
        </p:nvGrpSpPr>
        <p:grpSpPr>
          <a:xfrm>
            <a:off x="10858680" y="5816520"/>
            <a:ext cx="1955520" cy="546120"/>
            <a:chOff x="10858680" y="5816520"/>
            <a:chExt cx="1955520" cy="546120"/>
          </a:xfrm>
        </p:grpSpPr>
        <p:sp>
          <p:nvSpPr>
            <p:cNvPr id="456" name="Oval 68"/>
            <p:cNvSpPr/>
            <p:nvPr/>
          </p:nvSpPr>
          <p:spPr>
            <a:xfrm>
              <a:off x="10858680" y="5816520"/>
              <a:ext cx="195552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57" name="Rectangle 69"/>
            <p:cNvSpPr/>
            <p:nvPr/>
          </p:nvSpPr>
          <p:spPr>
            <a:xfrm>
              <a:off x="11332440" y="5923440"/>
              <a:ext cx="9975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df:Literal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58" name="Group 70"/>
          <p:cNvGrpSpPr/>
          <p:nvPr/>
        </p:nvGrpSpPr>
        <p:grpSpPr>
          <a:xfrm>
            <a:off x="10858680" y="6896160"/>
            <a:ext cx="1955520" cy="546120"/>
            <a:chOff x="10858680" y="6896160"/>
            <a:chExt cx="1955520" cy="546120"/>
          </a:xfrm>
        </p:grpSpPr>
        <p:sp>
          <p:nvSpPr>
            <p:cNvPr id="459" name="Oval 71"/>
            <p:cNvSpPr/>
            <p:nvPr/>
          </p:nvSpPr>
          <p:spPr>
            <a:xfrm>
              <a:off x="10858680" y="6896160"/>
              <a:ext cx="195552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0" name="Rectangle 72"/>
            <p:cNvSpPr/>
            <p:nvPr/>
          </p:nvSpPr>
          <p:spPr>
            <a:xfrm>
              <a:off x="11326680" y="7003080"/>
              <a:ext cx="100944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Student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61" name="AutoShape 73"/>
          <p:cNvSpPr/>
          <p:nvPr/>
        </p:nvSpPr>
        <p:spPr>
          <a:xfrm rot="10800000">
            <a:off x="7191000" y="6730560"/>
            <a:ext cx="1133640" cy="220680"/>
          </a:xfrm>
          <a:prstGeom prst="pi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AutoShape 74"/>
          <p:cNvSpPr/>
          <p:nvPr/>
        </p:nvSpPr>
        <p:spPr>
          <a:xfrm flipH="1">
            <a:off x="7190640" y="7378560"/>
            <a:ext cx="1133640" cy="222480"/>
          </a:xfrm>
          <a:prstGeom prst="pi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Line 75"/>
          <p:cNvSpPr/>
          <p:nvPr/>
        </p:nvSpPr>
        <p:spPr>
          <a:xfrm>
            <a:off x="10009080" y="7162920"/>
            <a:ext cx="82728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4" name="Line 76"/>
          <p:cNvSpPr/>
          <p:nvPr/>
        </p:nvSpPr>
        <p:spPr>
          <a:xfrm>
            <a:off x="9901080" y="6083280"/>
            <a:ext cx="93528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Line 77"/>
          <p:cNvSpPr/>
          <p:nvPr/>
        </p:nvSpPr>
        <p:spPr>
          <a:xfrm>
            <a:off x="10009080" y="9232920"/>
            <a:ext cx="82728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Line 78"/>
          <p:cNvSpPr/>
          <p:nvPr/>
        </p:nvSpPr>
        <p:spPr>
          <a:xfrm flipH="1">
            <a:off x="7299360" y="9232920"/>
            <a:ext cx="71928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Rectangle 79"/>
          <p:cNvSpPr/>
          <p:nvPr/>
        </p:nvSpPr>
        <p:spPr>
          <a:xfrm>
            <a:off x="7364520" y="6350040"/>
            <a:ext cx="1169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dfs:domain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8" name="Rectangle 80"/>
          <p:cNvSpPr/>
          <p:nvPr/>
        </p:nvSpPr>
        <p:spPr>
          <a:xfrm>
            <a:off x="7364520" y="7543800"/>
            <a:ext cx="1169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dfs:domain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Rectangle 81"/>
          <p:cNvSpPr/>
          <p:nvPr/>
        </p:nvSpPr>
        <p:spPr>
          <a:xfrm>
            <a:off x="7148520" y="9385200"/>
            <a:ext cx="1169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dfs:domain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Rectangle 82"/>
          <p:cNvSpPr/>
          <p:nvPr/>
        </p:nvSpPr>
        <p:spPr>
          <a:xfrm>
            <a:off x="9901080" y="6180120"/>
            <a:ext cx="1001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dfs:rang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Rectangle 83"/>
          <p:cNvSpPr/>
          <p:nvPr/>
        </p:nvSpPr>
        <p:spPr>
          <a:xfrm>
            <a:off x="9966240" y="9323280"/>
            <a:ext cx="1001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dfs:rang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2" name="Rectangle 84"/>
          <p:cNvSpPr/>
          <p:nvPr/>
        </p:nvSpPr>
        <p:spPr>
          <a:xfrm>
            <a:off x="9920160" y="6707160"/>
            <a:ext cx="1001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dfs:rang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473" name="Group 85"/>
          <p:cNvGrpSpPr/>
          <p:nvPr/>
        </p:nvGrpSpPr>
        <p:grpSpPr>
          <a:xfrm>
            <a:off x="8039160" y="7975440"/>
            <a:ext cx="1955880" cy="546120"/>
            <a:chOff x="8039160" y="7975440"/>
            <a:chExt cx="1955880" cy="546120"/>
          </a:xfrm>
        </p:grpSpPr>
        <p:sp>
          <p:nvSpPr>
            <p:cNvPr id="474" name="Oval 86"/>
            <p:cNvSpPr/>
            <p:nvPr/>
          </p:nvSpPr>
          <p:spPr>
            <a:xfrm>
              <a:off x="8039160" y="7975440"/>
              <a:ext cx="1955880" cy="546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75" name="Rectangle 87"/>
            <p:cNvSpPr/>
            <p:nvPr/>
          </p:nvSpPr>
          <p:spPr>
            <a:xfrm>
              <a:off x="8164800" y="8094960"/>
              <a:ext cx="169848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responsible_for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76" name="Line 88"/>
          <p:cNvSpPr/>
          <p:nvPr/>
        </p:nvSpPr>
        <p:spPr>
          <a:xfrm>
            <a:off x="9016920" y="7458120"/>
            <a:ext cx="1800" cy="50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Line 89"/>
          <p:cNvSpPr/>
          <p:nvPr/>
        </p:nvSpPr>
        <p:spPr>
          <a:xfrm flipV="1">
            <a:off x="9016200" y="8542080"/>
            <a:ext cx="1800" cy="392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Rectangle 90"/>
          <p:cNvSpPr/>
          <p:nvPr/>
        </p:nvSpPr>
        <p:spPr>
          <a:xfrm>
            <a:off x="9191160" y="7543800"/>
            <a:ext cx="18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dfs:subPropertyOf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Rectangle 91"/>
          <p:cNvSpPr/>
          <p:nvPr/>
        </p:nvSpPr>
        <p:spPr>
          <a:xfrm>
            <a:off x="9191160" y="8564400"/>
            <a:ext cx="18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dfs:subPropertyOf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Rectangle 92"/>
          <p:cNvSpPr/>
          <p:nvPr/>
        </p:nvSpPr>
        <p:spPr>
          <a:xfrm>
            <a:off x="2232720" y="7340760"/>
            <a:ext cx="26798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Relatione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Rectangle 93"/>
          <p:cNvSpPr/>
          <p:nvPr/>
        </p:nvSpPr>
        <p:spPr>
          <a:xfrm>
            <a:off x="1486080" y="304920"/>
            <a:ext cx="1104876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DFS - einfache Ontologien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06052-939D-4692-BC03-DB72509DEEE6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DF Schema als Ontologiesprache?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26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geeignet für 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orteil: automatisches Schlussfolgern ist relativ effizien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ber: für komplexere Modellierungen ungeeigne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ückgriff auf mächtigere Sprachen, wi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OWL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F-Logik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5:30:16Z</dcterms:created>
  <dc:creator/>
  <dc:description/>
  <cp:keywords/>
  <dc:language>en-US</dc:language>
  <cp:lastModifiedBy>Sebastian Rudolph</cp:lastModifiedBy>
  <dcterms:modified xsi:type="dcterms:W3CDTF">2009-12-10T00:03:23Z</dcterms:modified>
  <cp:revision>9</cp:revision>
  <dc:subject/>
  <dc:title>Grundlagen Semantic Web</dc:title>
</cp:coreProperties>
</file>